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0" y="0"/>
            <a:ext cx="6858000" cy="9774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85">
                <a:moveTo>
                  <a:pt x="5" y="0"/>
                </a:moveTo>
                <a:arcTo wR="5" hR="5" stAng="16200000" swAng="-5400000"/>
                <a:lnTo>
                  <a:pt x="0" y="30780"/>
                </a:lnTo>
                <a:arcTo wR="5" hR="5" stAng="10800000" swAng="-5400000"/>
                <a:lnTo>
                  <a:pt x="21595" y="307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0" y="0"/>
            <a:ext cx="6858000" cy="9774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85">
                <a:moveTo>
                  <a:pt x="5" y="0"/>
                </a:moveTo>
                <a:arcTo wR="5" hR="5" stAng="16200000" swAng="-5400000"/>
                <a:lnTo>
                  <a:pt x="0" y="30780"/>
                </a:lnTo>
                <a:arcTo wR="5" hR="5" stAng="10800000" swAng="-5400000"/>
                <a:lnTo>
                  <a:pt x="21595" y="307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dt" idx="15"/>
          </p:nvPr>
        </p:nvSpPr>
        <p:spPr>
          <a:xfrm>
            <a:off x="3884760" y="-360"/>
            <a:ext cx="29685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ldImg"/>
          </p:nvPr>
        </p:nvSpPr>
        <p:spPr>
          <a:xfrm>
            <a:off x="985320" y="733320"/>
            <a:ext cx="4883400" cy="366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body"/>
          </p:nvPr>
        </p:nvSpPr>
        <p:spPr>
          <a:xfrm>
            <a:off x="685440" y="4642920"/>
            <a:ext cx="5483160" cy="439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sldNum" idx="16"/>
          </p:nvPr>
        </p:nvSpPr>
        <p:spPr>
          <a:xfrm>
            <a:off x="3884760" y="9283320"/>
            <a:ext cx="29685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F7C3367-05DC-4874-A375-64710595D5E7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F333166-350A-490D-9AA2-3ED270C921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D04BBF8-3355-4163-89CB-BF5A142412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F681CBC-52D8-455C-BC1A-AC23008935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8BED990-940F-46A8-BB1B-3C16ED9957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33104CB-C97E-48F4-AB89-37E0FC22B3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8807F93-F98C-4AAC-B3B2-6F4459B580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07E5275-01B3-4EA7-AF9E-9081EE43AF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C398394-4DB4-4A78-A889-2D0EB70EF0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67FF6-E8D5-47FE-9727-4621F17C00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79FBF-BA36-43A4-B1CC-03FF848F7361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63CB4-701C-4EE7-B210-AB6A5A61056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368F0-3E75-443E-BF6E-E0AE5126A8F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6F045-BA0E-42D5-A155-885185FD71E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15AB3-ED6D-421D-9BC8-9D35FD4D296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AAF34-AB7D-44C8-8A67-23704E7A8029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FAD49-9312-42DE-8558-340E3AE13F4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D2E87-ED86-4D00-8116-DD71BB8ADC1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EBC81-235C-4714-93F2-F3EF6CACF8C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73F0B-EBA2-4953-AAE0-7AC4A8DD3167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DA042A-A4BA-4F54-BDCD-8C99E7ED8A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7A694-939A-4851-A8EF-ADF91F6434A7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1AF697-758F-4022-988B-72D895E52F4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7B5C7D-9905-48ED-B6CE-2BF5C26F3A86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E89417-7958-4BCA-871D-4607C412265A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92D131-E346-45AA-A5DF-0E0D56C689E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DD21D3-A38E-4EA3-84D6-438AF4D62A77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F1315E-EF54-40C4-9DE6-D2784D3DFD8A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7690C6-F6BA-4CAF-979C-A51C9376A958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0BEEC0-B934-49E3-B36C-A20803CC399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248890-77C6-455B-8092-464A7658BEDA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F4BA8E-7CB4-4ECE-BE43-8DB97F50DA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432F6-F836-4DA7-ADC2-97488A100CB6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E04A77-6E7F-4AB6-A261-FE2B8A554B0A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C05A03-AE0E-4E4F-84AF-E679B4730253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B10770-DB65-4FAB-A59C-687350A6A400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62647D-D129-4450-9D80-6DC521864A9D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8DCEAC-592D-4E69-986E-871787998818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D09B11-A7D2-4E57-B6E7-218ACE8C9BD3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E8B389-50E7-41D2-97D9-4847B5BB5258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F1FF36-2538-41A5-A7FD-C378183688C8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67FF5B-E112-45A4-8FD9-17357EE808E2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52172F-26AA-48C9-8A18-1057344E97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CDD04-1B3B-4C42-A56B-9F4E5837CC5B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D696F9-8304-4B01-B87E-B3816F2A6EE1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D021C9-4EF6-4640-8F34-53B30D67DBBD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9E26B4-F34D-4A96-9DB2-86A4F96D6DE0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9242F-4ED2-4BCB-937B-8557EE5A57A5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6C5F0-30A6-49F1-ABF9-DB37589BEF1C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E762C-28A6-4EED-B4A1-40869805F8D3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115ED-7974-4271-92D8-1AAE0A9DCEB8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91BC2-3EB5-46C4-97C5-7C06D131F5D7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30F99-0189-433A-B119-1F8AA41A4558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87186-C22A-412B-BE88-BEE8F2F8DC1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0753D-2A71-4211-958C-5D0DEA9EEBF9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16EE0-97E2-488F-AE58-7A94C972C2C8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96124-FA4C-4844-9998-F3ADC6ECE140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09A8A-B44B-4A1A-AF57-181324A2E076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FCC1B-86D2-46F0-AA97-F82967C2CF97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9DB06-CA66-45D6-9DB6-79183747EA78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3DC270-5CC3-48A6-9444-0061E558761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FD3913-04BD-444B-92F3-C4B6410BE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41637C-796D-4F59-965D-D0A19048C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60BC07-303B-45C1-A269-B098F024F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409261-994E-4A88-AF95-6CB59AFBA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3C746-7145-4DD8-BAA2-55475C76D6E3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B08DD2-DFFE-4157-A47A-F60D84A19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196481-DC1F-4A27-B245-09577F886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35A74E-13BC-4EDE-BBF7-4FCA0EC20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EBD3DE-708F-4B6E-8FC5-307E7A9F3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DB2A90-8317-4F19-9623-D8ED08748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33344D-01DC-4339-AAA0-6595479B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F50165-28F3-43E7-BB35-7132AA381B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E4A31-ACE4-4324-A3DE-AD9E6A0E360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9DB14-8284-4BDC-838A-477AB00D587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8E28D-8546-4886-B6F2-A976BF36DFF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9742E-F3D3-4E74-9A75-C5EDC32648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700CD-B55D-4F3E-B702-B23A369873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5EFD6-C6EF-4E02-8A31-A0DA8707011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E45BF-0556-4250-A12F-0ADF989B1CA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D6A83-E151-4AA8-A019-E5328A70CBA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C3832-4AC0-4614-A01D-3301BB016B0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74C60-1501-4158-A1E4-59D023867A3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6CA6-385C-47D2-B0EC-CD35135CBD3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A450-3F5D-42DF-8587-B89F87DFA74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8868-51C9-4A0F-96E6-C1C96797FA3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0DBA-C490-4FD4-951C-18727EFDF17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5DD5-EA00-470D-AD98-E3A4F3B756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F2FD9-38F2-4DF3-8EA0-6CBC29BCBF7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682E-C534-4382-851D-1DE5C775F8A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D294-B4B4-4E20-A5F6-F606AB7C2A0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CFE2-D045-4AAA-BA5A-4B9DDD05B18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E5A4-1634-42B4-A2FB-7A782725827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B16C-8D93-4F79-B8A7-5ECB78D7E57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802E-A54C-4E16-AF5C-20E041EA033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3565-B391-433A-8FB4-60DF91E1CA7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03F4F5-5AAA-49DD-BE7D-8AB4F6239CD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CA92E2-34CE-4E18-B860-35A8EB6AC09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C36BF2-1C87-42CF-A3E8-F0186A07EB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0963A-3EEE-4392-85CD-18D963D93DB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7EC0B9-475C-4545-847A-CFB52C6BAD2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9275B0-33A4-47DC-83F4-1D1CCC60AD8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DD348A-DAA1-46DB-B87E-5270129423F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7A9A2E-261A-4CF1-80F2-93A01A3F775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B6397F-817C-4804-B5D9-7038A300BBD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FCC518-10F2-4905-BD7B-B04129F2917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C81E32-E08D-496C-849A-2163756DF44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D73999-BA03-4BB6-AC1D-ACCCFC10853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09431A-8C4C-4DEE-BC63-C892B8E12DF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BAC309-AAA3-45E9-9796-B4F1D9E7B7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F62E9-BA45-4011-94DB-6C1EFAA4E5E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8DC9A4-92C1-4B57-963C-6E91145E2F4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9DA81C-5AC4-49D4-9C3A-5F1984F0558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A46806-8121-4D48-B479-84B60DDD938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690AFA-6018-49C0-AD40-C9F856D4E3B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0B2A4E-45DB-4BE2-A3E7-3662F31DB08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A44297-A77A-4873-8C67-BDE707BD152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EB75F7-CD0A-4921-A660-DB5284A2D1F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BB6ADC-EB12-4128-A91C-6FAE6A449D2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408AC5-D4C9-460F-8369-DE56B1681D7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6F07A7-4EF1-4762-8B98-F51009EB48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25300-4C1F-4FE0-A592-08EB79B1871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5CB64B-BAD3-42C4-AAD2-2F30D0F3852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10A2E-4725-4C2C-B8D1-8820E760331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A0D06-DD41-4482-BBAD-3A81E9CA13B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6DE43-6974-47B1-AE41-C02610E1271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564E1-8E54-4435-86B8-7AFF85EEB3F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842B6-4070-4D36-BBB3-DE0B55DA73B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3B887-99B7-454D-9669-EEAF5B0CD31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68D38-4A37-40B0-9223-544D3DD1BB4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FA4BB-DDC6-48C1-942E-628E8EABFF6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A8FE0-D68A-47C6-849F-AAC851D4B6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A2570-6EAB-437B-87BC-35088454F39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8DB86-2A65-4EA5-A295-64F4D207049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558D2-50D8-4B72-AC99-23597D3A5DB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74EE1-38A0-49C2-A39E-F3C71EA7730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C50522-7ECB-4DF4-BBCF-41211B51B7A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15EE22-656A-4810-BC24-0545F8CFC4E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D0E269-5E4A-431F-BC38-0A9E0A17F73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30BB88-27E9-4D08-BC57-FE4DDDB47B1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A0D58D-3218-4CAE-9F45-5A1984208A3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44FA90-635C-4DDF-9901-4B812FD2661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809D48-7D25-4049-8442-2264FC33B3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280A3-6179-42CC-86E6-33D5AD2AC3A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C17F87-91EA-4F3E-9D1D-3EEDA8B53FA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9714DD-DE36-41FE-9718-2CB302FB580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DA00FB-0AC2-4B04-9441-77EDEB5EA8F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FB5E10-6BB5-4497-A6EB-303E38B4672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0672CF-B8FC-4C11-BEB9-A734202C534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164BE7-8958-4431-96DF-945131ED072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3FCAF6-C57A-434B-AE23-D9356243870E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4EF8E2-4AF0-4C82-BED1-ADE2F2F1D51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58BD07-B14D-4BC7-B2BB-F814C354175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65F8E6-B1A9-4057-9A6F-F4FECCBD71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9518A-47EB-4072-ADB6-C0FD0C5E235A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6144C2-4375-4F7D-AB1B-1CE72F10A6B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33522E-2D58-4E9E-A37E-DA881BE25FD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764517-BA2A-4AA9-B845-D99AAC54464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FBE10A-BC48-4175-B11F-69B91B3B375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D694E1-B22F-4167-88C0-D0D8456CEB6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D6E71C-9641-4E33-A28A-49AFB62C8CA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167F99-C43F-44E7-A592-F874456C367D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94D7F-03D0-45D5-A76E-C86DB972A74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93E9F-74E8-4F9B-BDA1-057E13C35CBC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937B3-D7FE-409E-91FE-9486D85925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946864C-3973-41F3-ACD2-0C7245D6B811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Num" idx="10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05DC023-6ED1-49B1-A257-DFBA354C76CE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7AF9A96-A5A6-405E-9BB3-3DF8E7D28235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F96F2DE-4AF9-4F0D-91E4-90DC25FAF86A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13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2/7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sldNum" idx="14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D6C0B5F-4619-41EB-A653-D055911A96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DA80BF0-1E21-44AD-B238-62DE3A02FB15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21F2B42-DB70-41D4-9E19-BC3104F4090E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D7CBECD-4D12-4857-BF68-6F04FDFC420E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5D7DED3-C384-4E44-94D9-98CC01625405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B1C315A-2F65-4D4A-9BED-FFF1552D45CB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7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C5D8B9C-2C82-461F-BA35-CAD31E2D1954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BE997C0-CFCD-4212-859F-977AC8AB1D24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F8F2A5C-81ED-4E3C-88BA-E2EE98686DF2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1763640" y="2997360"/>
            <a:ext cx="5761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Δια-ιδρυματικό – Διατμηματικό Πρόγραμμα Μεταπτυχιακών Σπουδών Ακαδημαϊκού Έτους 20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24</a:t>
            </a: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 - 20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25</a:t>
            </a: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332000" y="4437000"/>
            <a:ext cx="6875280" cy="13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Εξειδίκευση στις Τ.Π.Ε. και Ειδική Αγωγή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Ψυχοπαιδαγωγική της Ένταξη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826920" y="580536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1800" spc="-1" strike="noStrike">
                <a:solidFill>
                  <a:srgbClr val="000099"/>
                </a:solidFill>
                <a:latin typeface="Arial"/>
                <a:ea typeface="Arial"/>
              </a:rPr>
              <a:t>ΕΙΣΗΓΗΤΗΣ: Γούπος Θεόδωρος,  δρ. Παιδαγωγικώ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136872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1009800" cy="119052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3"/>
          <a:stretch/>
        </p:blipFill>
        <p:spPr>
          <a:xfrm>
            <a:off x="1116000" y="189000"/>
            <a:ext cx="3571920" cy="94284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/>
          <p:cNvPicPr/>
          <p:nvPr/>
        </p:nvPicPr>
        <p:blipFill>
          <a:blip r:embed="rId4"/>
          <a:stretch/>
        </p:blipFill>
        <p:spPr>
          <a:xfrm>
            <a:off x="5003640" y="0"/>
            <a:ext cx="1121040" cy="121932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5"/>
          <a:stretch/>
        </p:blipFill>
        <p:spPr>
          <a:xfrm>
            <a:off x="6156360" y="115920"/>
            <a:ext cx="2867040" cy="100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395280" y="3573360"/>
            <a:ext cx="8137440" cy="25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ΤΜΗΜΑ ΕΛΛΗΝΙΚΗΣ ΦΙΛΟΛΟΓΙΑΣ ΔΗΜΟΚΡΙΤΕΙΟΥ ΠΑΝΕΠΙΣΤΗΜΙΟΥ ΘΡΑΚΗΣ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ΘΝΙΚΟ ΚΕΝΤΡΟ ΕΡΕΥΝΑΣ ΦΥΣΙΚΩΝ ΕΠΙΣΤΗΜΩΝ «ΔΗΜΟΚΡΙΤΟΣ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68360"/>
          </a:xfrm>
          <a:prstGeom prst="rect">
            <a:avLst/>
          </a:prstGeom>
          <a:ln w="0">
            <a:noFill/>
          </a:ln>
        </p:spPr>
      </p:pic>
      <p:pic>
        <p:nvPicPr>
          <p:cNvPr id="623" name="" descr=""/>
          <p:cNvPicPr/>
          <p:nvPr/>
        </p:nvPicPr>
        <p:blipFill>
          <a:blip r:embed="rId2"/>
          <a:stretch/>
        </p:blipFill>
        <p:spPr>
          <a:xfrm>
            <a:off x="1258920" y="2060640"/>
            <a:ext cx="1297080" cy="1528560"/>
          </a:xfrm>
          <a:prstGeom prst="rect">
            <a:avLst/>
          </a:prstGeom>
          <a:ln w="0">
            <a:noFill/>
          </a:ln>
        </p:spPr>
      </p:pic>
      <p:pic>
        <p:nvPicPr>
          <p:cNvPr id="624" name="" descr=""/>
          <p:cNvPicPr/>
          <p:nvPr/>
        </p:nvPicPr>
        <p:blipFill>
          <a:blip r:embed="rId3"/>
          <a:stretch/>
        </p:blipFill>
        <p:spPr>
          <a:xfrm>
            <a:off x="6948360" y="1989000"/>
            <a:ext cx="1444680" cy="1573200"/>
          </a:xfrm>
          <a:prstGeom prst="rect">
            <a:avLst/>
          </a:prstGeom>
          <a:ln w="0">
            <a:noFill/>
          </a:ln>
        </p:spPr>
      </p:pic>
      <p:sp>
        <p:nvSpPr>
          <p:cNvPr id="625" name=""/>
          <p:cNvSpPr/>
          <p:nvPr/>
        </p:nvSpPr>
        <p:spPr>
          <a:xfrm>
            <a:off x="611280" y="5950080"/>
            <a:ext cx="8064360" cy="7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ΕΙΣΗΓΗΤΗΣ: Γούπος Θεόδωρος,  δρ. Παιδαγωγικών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79280" y="5084640"/>
            <a:ext cx="878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ξειδίκευση στις Τ.Π.Ε. και Ειδική Αγωγή – Ψυχοπαιδαγωγική της Ένταξη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324000" y="1413000"/>
            <a:ext cx="856908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ΕΝΟΤΗΤΑ 5</a:t>
            </a:r>
            <a:r>
              <a:rPr b="1" lang="el-GR" sz="28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Η</a:t>
            </a:r>
            <a:br>
              <a:rPr sz="2800"/>
            </a:b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Θεσμικό Πλαίσιο Συνδιδασκαλίας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Μοντέλα Ένταξης 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Προβλήματα και προϋποθέσεις 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Σχολικής Ένταξης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Παράγοντες Σχολικής Ένταξης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l-GR" sz="2400" spc="-1" strike="noStrike">
                <a:solidFill>
                  <a:srgbClr val="000099"/>
                </a:solidFill>
                <a:latin typeface="Times New Roman"/>
                <a:ea typeface="Arial"/>
              </a:rPr>
              <a:t>ΕΙΣΗΓΗΤΗΣ: Γούπος Θεόδωρος,  δρ. Παιδαγωγικών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51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52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5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6" name=""/>
          <p:cNvSpPr/>
          <p:nvPr/>
        </p:nvSpPr>
        <p:spPr>
          <a:xfrm>
            <a:off x="1298520" y="2133720"/>
            <a:ext cx="78454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826920" y="1413000"/>
            <a:ext cx="759636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5.3.Θεσμικό Πλαίσιο Συνδιδασκαλίας-Θεωρητικές Προσεγγίσεις</a:t>
            </a:r>
            <a:br>
              <a:rPr sz="3200"/>
            </a:b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60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61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4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5" name=""/>
          <p:cNvSpPr/>
          <p:nvPr/>
        </p:nvSpPr>
        <p:spPr>
          <a:xfrm>
            <a:off x="1298520" y="2133720"/>
            <a:ext cx="78454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826920" y="1413000"/>
            <a:ext cx="759636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5.4.Μοντέλα Σχολικής Ένταξη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69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70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3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"/>
          <p:cNvSpPr/>
          <p:nvPr/>
        </p:nvSpPr>
        <p:spPr>
          <a:xfrm>
            <a:off x="1298520" y="2133720"/>
            <a:ext cx="78454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5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Παράγοντες Διαμόρφωσης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της Σχολικής Ένταξης</a:t>
            </a:r>
            <a:br>
              <a:rPr sz="3200"/>
            </a:b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5.5.Η Σχολική Κουλτούρ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78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79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2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Παράγοντες Διαμόρφωσης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της Σχολικής Ένταξης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5.6.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O ρόλος του Εκπαιδευτικού Προσωπικο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87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88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1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2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Παράγοντες Διαμόρφωσης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της Σχολικής Ένταξης</a:t>
            </a:r>
            <a:br>
              <a:rPr sz="3200"/>
            </a:b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5.7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O 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Ρόλος των γονέων και κηδεμόνω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96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97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0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1" name=""/>
          <p:cNvSpPr/>
          <p:nvPr/>
        </p:nvSpPr>
        <p:spPr>
          <a:xfrm>
            <a:off x="1042920" y="2062080"/>
            <a:ext cx="78454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2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Παράγοντες Διαμόρφωσης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της Σχολικής Ένταξης</a:t>
            </a:r>
            <a:br>
              <a:rPr sz="3200"/>
            </a:b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5.8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ρόλος του ψυχολόγο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05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06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9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863640" y="134136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Παράγοντες Διαμόρφωσης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της Σχολικής Ένταξης</a:t>
            </a:r>
            <a:br>
              <a:rPr sz="3200"/>
            </a:b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5.9.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Εξωσχολικές 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Κοινωνικές Δραστηριότητε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14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15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8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9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2T18:34:10Z</dcterms:created>
  <dc:creator>Maria Petmesidou</dc:creator>
  <dc:description/>
  <dc:language>en-US</dc:language>
  <cp:lastModifiedBy/>
  <dcterms:modified xsi:type="dcterms:W3CDTF">2024-10-30T21:16:07Z</dcterms:modified>
  <cp:revision>157</cp:revision>
  <dc:subject/>
  <dc:title>Παρουσίαση του PowerPoint</dc:title>
</cp:coreProperties>
</file>